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57155"/>
        <c:axId val="87815130"/>
      </c:barChart>
      <c:catAx>
        <c:axId val="88857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15130"/>
        <c:crosses val="autoZero"/>
        <c:auto val="1"/>
        <c:lblAlgn val="ctr"/>
        <c:lblOffset val="100"/>
        <c:noMultiLvlLbl val="0"/>
      </c:catAx>
      <c:valAx>
        <c:axId val="878151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57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8657-654B-42CD-9D34-31D55647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5404-52A6-430B-BBD3-55D64E8E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34D-159F-4BB6-AAA3-46768B2B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735-C132-40EB-B7D6-73FD87FB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8A7-4FF0-4B94-B756-7023F984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C4F4-F8A5-4530-BDA0-8A30CA22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DE2-4650-4EF4-BE1F-A525B821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0776-63ED-447C-A780-53572D93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67A-FC21-443A-BE56-4F79093B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086-F3B7-473D-9D7D-8840E133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86A-3228-4993-89A1-E9864052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3CB-BC07-40E8-A5F5-4C342599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4CD9B-3EDD-4E7E-B2F6-4E93A5EADD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