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14124"/>
        <c:axId val="80829052"/>
      </c:barChart>
      <c:catAx>
        <c:axId val="99614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29052"/>
        <c:crosses val="autoZero"/>
        <c:auto val="1"/>
        <c:lblAlgn val="ctr"/>
        <c:lblOffset val="100"/>
        <c:noMultiLvlLbl val="0"/>
      </c:catAx>
      <c:valAx>
        <c:axId val="808290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14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20E-D267-4661-9A2E-E8CCB2D2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A1A-BE4D-4FDB-8851-58427A03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934-B5B9-4222-B3E0-46D3FE2E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CEC-29B9-466C-9C4C-5F65CDC7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F16-58EC-41C6-B94C-E130F9A6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AEA8-6043-46AF-9524-EC4821E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A42F-754C-42E4-8C94-418CE13D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BF1-E9E2-453C-A956-6B75102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4BA-5DEA-4FBE-9B1B-F5F5054F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84A-1EC3-46D0-98E3-E07869CE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853-0A69-4BB8-ADA6-828217E1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0DC6-E3D2-45A0-9607-E83984F6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6D5A4-DAD0-4B76-BF54-B8792A54E0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