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5862"/>
        <c:axId val="55559735"/>
      </c:barChart>
      <c:catAx>
        <c:axId val="3225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59735"/>
        <c:crosses val="autoZero"/>
        <c:auto val="1"/>
        <c:lblAlgn val="ctr"/>
        <c:lblOffset val="100"/>
        <c:noMultiLvlLbl val="0"/>
      </c:catAx>
      <c:valAx>
        <c:axId val="55559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5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414-8B00-4057-8F47-777F3995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670-A237-4E33-8537-C766D510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94F-729F-4ADB-8819-4C103A46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EA0-EDA8-4C8E-BB9E-8CDE481B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76A-03DC-4EF5-837F-7C525027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3E4-AEF6-4C30-B037-037D5AB0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0DE-D414-4E9C-B2BD-5028D13E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030-6869-4A3F-A922-F13AED3A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393-0386-43A6-A4C6-1D4B34F9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CCC-E2AB-4FE0-AD43-90416FA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A8C-C9ED-4A07-A29F-438D2BF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20E-5D07-4F29-8365-80256586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847D0-8451-470E-BB5B-11F83D3842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