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83649"/>
        <c:axId val="37280284"/>
      </c:barChart>
      <c:catAx>
        <c:axId val="542836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0284"/>
        <c:crosses val="autoZero"/>
        <c:auto val="1"/>
        <c:lblAlgn val="ctr"/>
        <c:lblOffset val="100"/>
        <c:noMultiLvlLbl val="0"/>
      </c:catAx>
      <c:valAx>
        <c:axId val="37280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836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99D-70E6-4933-8D44-E8449037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3CF-A7DD-4575-B53F-4A3B17C9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6B6-6154-43BA-B83F-8DCCAAF2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C45-6EF7-4E00-85E4-FAA04648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C83-629C-4A3D-AC25-237AF95A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C6C-7E13-4CF1-98A0-D5DC3992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02B7-2401-40BA-9B35-717A2E25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A26-7251-440B-AB93-36864108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CF5-0832-4A75-88A0-BED4656F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26D-CDB3-4A11-8AB3-5497135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3D7-945A-4968-A0AF-5F84402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DDE-4FE7-4240-90FA-A522507D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9F666-F791-4CC4-9A47-2B6E2EE2E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