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26636"/>
        <c:axId val="78488951"/>
      </c:barChart>
      <c:catAx>
        <c:axId val="90526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8951"/>
        <c:crosses val="autoZero"/>
        <c:auto val="1"/>
        <c:lblAlgn val="ctr"/>
        <c:lblOffset val="100"/>
        <c:noMultiLvlLbl val="0"/>
      </c:catAx>
      <c:valAx>
        <c:axId val="78488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26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804-58B0-48F2-A5D2-66ABD20F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D21-C4F9-4E25-AE6B-4A1884D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ECF-11FC-48B1-BEF3-747E0139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70E-C555-44DA-9795-D3E4F5BC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A11-9EDF-4084-8B67-C09EC259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7A2-3A95-43C5-A7C0-1675BA0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865-6938-42C0-90AE-96CF4F25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984-F8D9-4183-A35E-CFEB670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DF1-ED80-42E7-B33F-DFD952E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97F-70D1-42C1-9516-B84F763A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01F-FA11-4881-B34E-9D36E97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856-C6CC-4B2B-B1EC-9B3B98C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D8B9B-4440-4BB8-8B23-84A97B21F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