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68653"/>
        <c:axId val="26920307"/>
      </c:barChart>
      <c:catAx>
        <c:axId val="30268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20307"/>
        <c:crosses val="autoZero"/>
        <c:auto val="1"/>
        <c:lblAlgn val="ctr"/>
        <c:lblOffset val="100"/>
        <c:noMultiLvlLbl val="0"/>
      </c:catAx>
      <c:valAx>
        <c:axId val="26920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8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971-6F9D-4666-8789-4BBF00C7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722-E314-48C0-B412-CDE3FB82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30C-1EAC-4F8D-BCC9-18EA26F4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669-82A7-4DA6-9703-49C23516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58B-1B20-4FBF-B2D1-88E10B24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818-1534-47D1-975E-4B969B30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B61-81E6-4F73-9913-6D165FF9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D9D-52AD-41FD-B739-51485164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060-301A-48A3-A2FD-11FC72C5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B71-74FF-44BF-A01E-4B590314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252-8CD4-48F0-8D51-12700FEE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33B-530A-4FB9-AC15-A72EA2D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17698-AFD2-4C44-8DDE-7173D12553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