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32267"/>
        <c:axId val="61788643"/>
      </c:barChart>
      <c:catAx>
        <c:axId val="13132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88643"/>
        <c:crosses val="autoZero"/>
        <c:auto val="1"/>
        <c:lblAlgn val="ctr"/>
        <c:lblOffset val="100"/>
        <c:noMultiLvlLbl val="0"/>
      </c:catAx>
      <c:valAx>
        <c:axId val="61788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32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639-2F4D-49B5-B954-27F3AE31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734-AEDA-4AA5-B7E4-68A23C70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A26-2FD3-42F8-9849-41EC7621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791-495F-47C7-9513-801BA0AB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FFA-B72F-4DB2-AB0F-A21FD91C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F4B-A899-4FD4-96B0-13173AC2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F94-E640-4E6D-B2C3-07CB72B2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850B-0378-4F4C-BA65-D8FB4FBF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529-23F7-4C58-8BF6-D4014147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13C-4561-4ADE-A181-06FBF878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A28-4031-4FDF-A81C-4FCAE46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B7C-3C21-44D2-B0C8-8554C7F6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AC5B9-8064-4528-BC85-43DFEEE65F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