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94912"/>
        <c:axId val="81925542"/>
      </c:barChart>
      <c:catAx>
        <c:axId val="66694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25542"/>
        <c:crosses val="autoZero"/>
        <c:auto val="1"/>
        <c:lblAlgn val="ctr"/>
        <c:lblOffset val="100"/>
        <c:noMultiLvlLbl val="0"/>
      </c:catAx>
      <c:valAx>
        <c:axId val="81925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94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4D8-D37D-4EAB-89C3-4B39EEA6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C90-1342-4B04-928A-15DB6BA7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B15-9436-4A24-BC1A-93F69332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A42-3468-412D-B18A-97D3585F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2CB-727F-4B84-882E-E3CB8059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8AB-C445-4452-9365-D7D2C9BD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847-B4DB-489D-8D0A-2E9E88EA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D49-8ECA-4F13-A406-D7CBE900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B4C-8D31-42CE-81A1-1854E845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07D-848B-43AB-A7A2-AD3E2CCB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F25-88DE-4FBA-B0D9-654A422D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DC5-9C8C-4C32-B2BF-1AC457D8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2B41F-FFB8-4201-8637-C602856EF7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