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3622"/>
        <c:axId val="2769485"/>
      </c:barChart>
      <c:catAx>
        <c:axId val="60736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9485"/>
        <c:crosses val="autoZero"/>
        <c:auto val="1"/>
        <c:lblAlgn val="ctr"/>
        <c:lblOffset val="100"/>
        <c:noMultiLvlLbl val="0"/>
      </c:catAx>
      <c:valAx>
        <c:axId val="27694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36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3CD-65D9-463F-B13F-094CD27A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FD6-7D4E-4F5B-9F48-E0CAC9EF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71B8-847E-42D1-AEA6-37683E60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63B-E497-4EE9-A796-302729BC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473B-24CB-4EAA-940D-D52970F9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DB1-F8BC-4385-9CD4-9203248E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41E-5165-4801-9BAA-FBBE5118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A02-5D8C-4509-AC8D-8C3B6492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A9A-924B-4BA1-A9EA-33552664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A54B-0E45-4322-B72F-3148AA53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4CE0-EFC9-4960-9B57-CA67FA08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C86-A34F-4BE1-9259-3EAEE9A5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EC839-E672-4356-968D-DD7C8856FC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