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37317"/>
        <c:axId val="95616586"/>
      </c:barChart>
      <c:catAx>
        <c:axId val="80537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6586"/>
        <c:crosses val="autoZero"/>
        <c:auto val="1"/>
        <c:lblAlgn val="ctr"/>
        <c:lblOffset val="100"/>
        <c:noMultiLvlLbl val="0"/>
      </c:catAx>
      <c:valAx>
        <c:axId val="95616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37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FC1-6566-449D-83B6-BBCB3A8F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552-FEC9-48FF-BEB5-A1A2C622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9D5-3CCD-4C4D-97C2-8A7C8CCA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BC7-1D60-48F6-B3CC-92F9335A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CCD-86B6-4518-8B7E-D2F9A088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308-77FA-477A-98A6-58845B22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1BC-5576-4CEF-9A3A-9DC0589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A31-9434-4782-AD98-70B4704E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0A3-0AC7-430D-9F01-820D2756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9F2-8703-4FE5-8CD0-45F10C8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97D-36D8-45F0-AD8A-6AFF7D64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676-056A-49BD-86C0-2749A85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4772C-5D0B-4C68-B46F-0574CE70D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