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60793"/>
        <c:axId val="64799429"/>
      </c:barChart>
      <c:catAx>
        <c:axId val="98607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799429"/>
        <c:crosses val="autoZero"/>
        <c:auto val="1"/>
        <c:lblAlgn val="ctr"/>
        <c:lblOffset val="100"/>
        <c:noMultiLvlLbl val="0"/>
      </c:catAx>
      <c:valAx>
        <c:axId val="647994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607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F4E4-AF5A-4BE3-87CC-DC431A50C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C686-BCEB-4959-AAA7-BF9339ADC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5A24-934D-4430-A668-0D85A8440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B26E-6B68-4C64-B9CB-38BD9D2B4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CDA7-04A8-49E6-8495-D54D3539C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4CC0-86A9-493D-B475-A61E92B35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3A09-85BF-4D63-91DB-B8D348CAB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59AA-9676-479C-85BA-830ABA3EC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F910-4374-4C2B-BC9A-20FFF596D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A04D-4DE8-4EB7-BCB4-2F4F3DEEC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EBCE-8CB4-4CFB-B859-00017CA1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3544-A3DF-4345-9B4A-54286E53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AF3D94-46A4-46BA-80E8-D692B763382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