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6948"/>
        <c:axId val="19953717"/>
      </c:barChart>
      <c:catAx>
        <c:axId val="4296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53717"/>
        <c:crosses val="autoZero"/>
        <c:auto val="1"/>
        <c:lblAlgn val="ctr"/>
        <c:lblOffset val="100"/>
        <c:noMultiLvlLbl val="0"/>
      </c:catAx>
      <c:valAx>
        <c:axId val="19953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19F-026F-48D4-91F0-D4DFDFB3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4A9-0A84-4A66-B206-7A4F54D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F7F-042C-495B-A3EA-24475257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88E-37F0-49EB-B95E-8809485C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EB9-859E-494C-BBD9-FB588AFF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8F4-78B5-4493-B20C-0B466BBB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0B2-87FF-4F3B-98B4-15FAA21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0D0-F939-4D79-9C00-912ACAB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AAD-13C0-4F30-A098-E204D586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F1D-4BC9-4B64-88DB-A340B25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F8F-0DB3-44BA-9C1C-A59EBD0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D72-AA76-423D-ADD7-26705D3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4F909-16CF-458E-996A-A62CC25B9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