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11892"/>
        <c:axId val="17453853"/>
      </c:barChart>
      <c:catAx>
        <c:axId val="26411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53853"/>
        <c:crosses val="autoZero"/>
        <c:auto val="1"/>
        <c:lblAlgn val="ctr"/>
        <c:lblOffset val="100"/>
        <c:noMultiLvlLbl val="0"/>
      </c:catAx>
      <c:valAx>
        <c:axId val="17453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11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E29-61CC-4303-8D88-A77E7B30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E3B-4249-40B7-BFC2-7FF472C6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3A8-7BB6-4757-9142-497F3EA2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057-BCAB-431F-BEB0-A1F70B7A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BDAF-32E2-4DEA-A29B-1B6ED175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32F8-586A-40A0-A13D-E2E8C901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25AE-BE8D-4C99-8586-FAD727A4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B5F7-910C-4261-A159-50B1D093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6A4-CC97-435F-B2D5-D23FCDCA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ED23-FA65-4965-A86F-67E81E0C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7D0-80E2-43F9-906A-F40B2128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C22-B6C4-49ED-8BA9-D9EE1A33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B9A91-87F0-4F3A-9A77-7B14285D9C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