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05697"/>
        <c:axId val="3888405"/>
      </c:barChart>
      <c:catAx>
        <c:axId val="35905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8405"/>
        <c:crosses val="autoZero"/>
        <c:auto val="1"/>
        <c:lblAlgn val="ctr"/>
        <c:lblOffset val="100"/>
        <c:noMultiLvlLbl val="0"/>
      </c:catAx>
      <c:valAx>
        <c:axId val="3888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5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2E7-2987-441F-B904-EE1700CB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429-C8C8-4A6C-9B70-61C1F4DD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2BA-4CA3-4093-A878-BF1FD8B3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09C-1516-47E6-A56A-56543E71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41B-073A-47BC-993E-BFA4BCF8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513-8D55-4681-8847-F1F8B9C1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406-85CA-4F05-AAF9-A1ADFB6D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0C3-9C80-4025-A7DC-1CAA09B2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A84-F93F-4D93-877D-9CDCE479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AD8-3025-4BA9-AAC1-940FDC9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6B9-3F3A-4E3F-B88F-F1CFCDF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288-94E5-4945-82B7-47FB3C9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32A63-747C-4151-9C92-E0018BF58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