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65722"/>
        <c:axId val="84138028"/>
      </c:barChart>
      <c:catAx>
        <c:axId val="43065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38028"/>
        <c:crosses val="autoZero"/>
        <c:auto val="1"/>
        <c:lblAlgn val="ctr"/>
        <c:lblOffset val="100"/>
        <c:noMultiLvlLbl val="0"/>
      </c:catAx>
      <c:valAx>
        <c:axId val="84138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65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D37-1410-409C-A944-ADC7DACF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ECE-43F9-42A8-BC1F-70829423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F63-8EC5-45A2-A6CB-53204269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BB7-6624-4838-B8C5-98BFB4C2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057-D6AB-4C89-A057-A7C88AB6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A67-F029-4A45-9091-5026138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FEE-D77B-4A47-A8DF-F3BC6B3B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4A5-10C0-496C-9C3A-E1C883B8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48B-DCAF-4912-AA33-35841376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19F-3926-4519-B756-DD7883B3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148-37A2-483B-B0D8-42DB8ED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CAB-2505-42A0-A5BC-227E1D4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E590D-1C5B-4B14-9CD0-49C6324CAA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