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676710"/>
        <c:axId val="76056242"/>
      </c:barChart>
      <c:catAx>
        <c:axId val="26676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56242"/>
        <c:crosses val="autoZero"/>
        <c:auto val="1"/>
        <c:lblAlgn val="ctr"/>
        <c:lblOffset val="100"/>
        <c:noMultiLvlLbl val="0"/>
      </c:catAx>
      <c:valAx>
        <c:axId val="76056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76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EA3-691A-471F-B854-0006E06A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49F8-D77F-4CAF-92C1-A566E4F2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8E5C-EA1F-4D11-B702-CAE54784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7C3-FA65-45BF-96DB-78235DD0D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F4A-39EF-4D95-8CC3-BC2B97DC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86C-7D75-4F8E-949B-5FA904AB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473-CBEC-4EC7-ACBB-32E5714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7079-A266-426F-B574-18E564B2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EEE-D5C1-4548-AB7D-18CCD50C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6CB-EA8E-4A8D-B17B-7BDF4059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7D0-E830-43EF-96CC-DC5F5B64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DCE-562F-462B-9FA5-B0A61E46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0F6F8-D8FB-4124-BDC4-1FA4ADBD86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