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10180"/>
        <c:axId val="14270286"/>
      </c:barChart>
      <c:catAx>
        <c:axId val="38810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70286"/>
        <c:crosses val="autoZero"/>
        <c:auto val="1"/>
        <c:lblAlgn val="ctr"/>
        <c:lblOffset val="100"/>
        <c:noMultiLvlLbl val="0"/>
      </c:catAx>
      <c:valAx>
        <c:axId val="14270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10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E4D-2596-4F02-8781-26656CC1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FC9-68D8-4ABC-BE6E-C683E1ED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851-4319-4686-8397-E62618FB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667-5C90-4E4B-A073-7C856017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537-CCB6-4071-B0EA-AB036324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DFC7-61B0-4A11-960A-F8CE6B0C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7BD-9BAF-400C-8071-CE72112F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EF32-1B74-4891-88E0-41A369BD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6C3-00A5-4100-95D7-E18C32D8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994-CCA2-4908-B0A0-A115FC23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1B3A-44DE-4FDA-AB62-91817B85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C0E-D37C-41AC-BA81-3E1E4B37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84820-C2BD-451B-A7D7-188DD790B3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