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95111"/>
        <c:axId val="87022432"/>
      </c:barChart>
      <c:catAx>
        <c:axId val="43195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2432"/>
        <c:crosses val="autoZero"/>
        <c:auto val="1"/>
        <c:lblAlgn val="ctr"/>
        <c:lblOffset val="100"/>
        <c:noMultiLvlLbl val="0"/>
      </c:catAx>
      <c:valAx>
        <c:axId val="87022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5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290-9A46-4C6C-9BE2-111D677E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52E-5570-450F-B075-A3C3E89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100-041A-4756-8936-9DF28550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5CB-A544-404F-AFD9-6DD6C65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87B-1115-4805-9263-E697ADB1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1D6-E579-4DBA-A545-04F797C6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282-5E00-4CD6-8FFE-D968D2FF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D34-7C01-45F1-A132-C8DB50E8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693-044C-4CF0-B92A-1358857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F6B-7618-4FD8-85E2-45F2EDA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071-03EE-4833-AFCB-D68E7A7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3A0-AA35-48EA-8884-619C03DF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86823-0985-46DB-883F-BEE0B4FDCE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