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60575"/>
        <c:axId val="5459260"/>
      </c:barChart>
      <c:catAx>
        <c:axId val="32060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9260"/>
        <c:crosses val="autoZero"/>
        <c:auto val="1"/>
        <c:lblAlgn val="ctr"/>
        <c:lblOffset val="100"/>
        <c:noMultiLvlLbl val="0"/>
      </c:catAx>
      <c:valAx>
        <c:axId val="5459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60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C35-4055-4134-9167-81729731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D6F-8653-44E2-BA12-FFEC67BB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079-8C60-4288-86CF-812A762B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052-4A26-4583-9036-84CBF07B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150-B445-4043-A10B-D2ADF202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D24-2E3C-4482-82C4-A55A24E9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458-EB20-42FC-91EA-9C6A45C6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90B-7B2B-48B9-938D-FFDE940C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62D-7DA3-462A-A8CF-D792F96F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A3A-3176-4E62-9557-CE3141CA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075-3E5E-43F1-B845-DCDD6E98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E77-978A-49AC-A943-46673EB0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97606-7805-4EF0-B83A-33FC938BBD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