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5815"/>
        <c:axId val="38149067"/>
      </c:barChart>
      <c:catAx>
        <c:axId val="4565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9067"/>
        <c:crosses val="autoZero"/>
        <c:auto val="1"/>
        <c:lblAlgn val="ctr"/>
        <c:lblOffset val="100"/>
        <c:noMultiLvlLbl val="0"/>
      </c:catAx>
      <c:valAx>
        <c:axId val="38149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5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9F5-CE18-4276-AA55-A9E8510E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43E-ADCE-4C54-9E36-8BA0BA0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19F-B00C-4799-B124-72E3AC13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C4F-2A94-40E3-9AFC-314088A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51D-403A-44F8-9117-7DA0402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F06-A9B3-4CF5-8C90-5994FBF1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B05-907F-4BAE-A31F-B75B24D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03E-F7C8-4957-96D0-0D851BE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34B-BAD6-4466-8493-97F35DA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11E-BDD5-41D9-8103-562F4FE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E2A-3AA9-4574-9FE8-4E26E94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7F8-7EC0-41F7-8659-9401D38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15975-B695-4279-A9E9-D517BAB08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