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58298"/>
        <c:axId val="54618644"/>
      </c:barChart>
      <c:catAx>
        <c:axId val="45358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18644"/>
        <c:crosses val="autoZero"/>
        <c:auto val="1"/>
        <c:lblAlgn val="ctr"/>
        <c:lblOffset val="100"/>
        <c:noMultiLvlLbl val="0"/>
      </c:catAx>
      <c:valAx>
        <c:axId val="54618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58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AD6-389C-427E-8E7B-09D3762C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BBE-A60A-4603-8327-EB81ABF7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992-A034-49B3-8FE0-D3B28B81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8BC8-4FA6-42ED-9FC9-8F9B2411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ACED-7BC5-4C47-B95C-96F7C603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17C-BAF2-48BA-A3D6-D6B515C9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E6F8-1B61-4CD5-9EA8-6F703E61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867-C06F-48F1-A84D-AF4657F7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00A-E85B-403E-982C-47CCAA38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363-849E-4F11-A82A-1A6FD44A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13A-6D45-4D81-B5BC-2547E3E4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393-5935-4A18-B3AF-40DB5E16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ACCF7-46F7-43F3-A2FE-FDC0C8BC75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