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8630"/>
        <c:axId val="67253020"/>
      </c:barChart>
      <c:catAx>
        <c:axId val="4138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53020"/>
        <c:crosses val="autoZero"/>
        <c:auto val="1"/>
        <c:lblAlgn val="ctr"/>
        <c:lblOffset val="100"/>
        <c:noMultiLvlLbl val="0"/>
      </c:catAx>
      <c:valAx>
        <c:axId val="67253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21F-C2B9-463B-A568-0C66C422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EE2-E962-4575-937E-154B9E7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E8C-9881-42AD-AA5D-7DA1BF5F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E2F-F922-4D45-85F0-37882E8A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A33-F6AD-4937-9AAE-3AF17FD8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D98-9BE5-4459-8F04-D91F4DE5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434-9F0D-4469-A8B0-0D789C1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7D9-01A1-4666-811F-0F44127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A44-CEC5-4610-BB94-DA079D20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EE5-C5FF-4289-83AE-0CA4239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722-5BC9-4618-B52D-415F8DB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8A0-468B-485A-935E-C1E1D42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AB048-7321-4719-A2A4-B2B298BB2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