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68522"/>
        <c:axId val="78697967"/>
      </c:barChart>
      <c:catAx>
        <c:axId val="11968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97967"/>
        <c:crosses val="autoZero"/>
        <c:auto val="1"/>
        <c:lblAlgn val="ctr"/>
        <c:lblOffset val="100"/>
        <c:noMultiLvlLbl val="0"/>
      </c:catAx>
      <c:valAx>
        <c:axId val="78697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68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C8E-507B-4D9C-AA4A-D5531D7A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656-00AF-4BE7-BC1E-3ECF39C2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826-7234-4474-92D1-F67E4BB5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E3E-9812-44FC-A376-C475544B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A2A-C2EA-4777-9485-E2D7756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9B3-D931-433A-AAD0-81753BFB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47-5431-4F4A-BE35-A29C90E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DA6-3D65-4B0D-9068-526D093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043-C661-4EB2-90F4-6522D8C1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CCF-8436-4388-9AEA-8A2AA86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59F-AF31-411C-A4A5-557EF92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48F-1B6B-4589-8D58-F4C9914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77DB5-C0BF-4C0C-A019-8CD35B9D5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