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987374"/>
        <c:axId val="89100418"/>
      </c:barChart>
      <c:catAx>
        <c:axId val="739873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100418"/>
        <c:crosses val="autoZero"/>
        <c:auto val="1"/>
        <c:lblAlgn val="ctr"/>
        <c:lblOffset val="100"/>
        <c:noMultiLvlLbl val="0"/>
      </c:catAx>
      <c:valAx>
        <c:axId val="891004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9873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1D29-7F43-48D8-B141-761515053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82BB-6BD7-40A1-88E8-743535009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829-4C14-477C-9364-1C73BDB80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EFDA-09A6-4594-835B-57EAFF607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3448-2B63-4154-909D-0C510B9C4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AC11-4C4D-4EDF-BBAD-612977038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A4DA-3F34-4B53-BB2A-E01346803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9E3A-A8B6-4A70-8508-0E443209B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E360-1C6B-482E-9039-541DD9F2C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9418D-4A81-46E0-BBF4-13D2C288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9BC7-03F7-40C6-9464-237C665D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F305-01AA-4DA9-8ECF-476F53B78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9F818-37CA-4C95-B028-7B9407F2071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