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16197"/>
        <c:axId val="46185518"/>
      </c:barChart>
      <c:catAx>
        <c:axId val="20416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85518"/>
        <c:crosses val="autoZero"/>
        <c:auto val="1"/>
        <c:lblAlgn val="ctr"/>
        <c:lblOffset val="100"/>
        <c:noMultiLvlLbl val="0"/>
      </c:catAx>
      <c:valAx>
        <c:axId val="46185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16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D73-18A5-420A-B52E-A794641A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38F2-3015-4440-810F-AA86035A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B44-E4D9-492C-A518-9D6B9FA0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0C5-A4F4-44AD-889A-7DC1A882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DE6B-9C78-4CA9-A5FD-0234CF08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94D-9228-4419-9C7E-174803A8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D9E-3BB3-49BB-9F08-0284B943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E8B-5C8B-4691-B8BE-85EA926A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162-7AC0-4D2D-9B52-8460D32C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2CD-4B5C-4FE1-BD8D-7649A7CB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DB1-32D6-403A-9478-666EE7D3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18A-B014-4F5E-A320-9FBDF2BC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C930F-8FF5-471F-BF01-F1F981EE0B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