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314807"/>
        <c:axId val="3138007"/>
      </c:barChart>
      <c:catAx>
        <c:axId val="473148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8007"/>
        <c:crosses val="autoZero"/>
        <c:auto val="1"/>
        <c:lblAlgn val="ctr"/>
        <c:lblOffset val="100"/>
        <c:noMultiLvlLbl val="0"/>
      </c:catAx>
      <c:valAx>
        <c:axId val="31380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3148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20B4-68D8-41D2-8DF1-F4F1EFC08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E92E-0278-47CA-ADF9-53310422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62E3-5039-4A08-BFF4-142B323E9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C820-C426-405A-BA14-35BFC74E8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D1EB-DFA1-4A5B-8DF1-B3A166FE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B26E-4FEC-43B9-9121-3929C27D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F245-E63A-4C85-AABF-B74F61E3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E098-4C01-4000-AF96-C17D7665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3E52-84C3-4AC4-A76D-0305D4EC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4FA7-372E-4804-83DA-A3B91ED8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C0BB-2FC7-4852-9968-6BBFD17B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06C7-AC99-4644-9230-54DA0D09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394FF-431D-4F35-A141-0EC287C28E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