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4240384"/>
        <c:axId val="24099895"/>
      </c:barChart>
      <c:catAx>
        <c:axId val="3424038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099895"/>
        <c:crosses val="autoZero"/>
        <c:auto val="1"/>
        <c:lblAlgn val="ctr"/>
        <c:lblOffset val="100"/>
        <c:noMultiLvlLbl val="0"/>
      </c:catAx>
      <c:valAx>
        <c:axId val="2409989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24038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C43CE-31F4-45CC-890F-832D6E5C1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D322E-E4F0-4AC0-B7DB-8548379EA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F6B19-8D41-40AE-9287-2B732E0AF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4F97C-F725-4B35-8D5C-F8CED2B57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34A5F-8066-48E6-8FA2-2E759249A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A2618-DEF9-48EE-969D-E4C09CAEA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FD985-7C7B-496C-9F44-E2BA6B926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C3EBA-39DA-4FEE-A176-1C6E5393D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087B6-51F0-4B0A-8074-2643585F2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69894-1A38-4AF0-A57C-91878443F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88CC4-1DCC-424E-8E25-EFE1011EB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B89F1-B0E0-4CBE-8667-20A4A67F7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107CD6-6D70-4E41-A8FE-B800ED192F8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