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8380"/>
        <c:axId val="55373928"/>
      </c:barChart>
      <c:catAx>
        <c:axId val="8098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73928"/>
        <c:crosses val="autoZero"/>
        <c:auto val="1"/>
        <c:lblAlgn val="ctr"/>
        <c:lblOffset val="100"/>
        <c:noMultiLvlLbl val="0"/>
      </c:catAx>
      <c:valAx>
        <c:axId val="55373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8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FB2-0FBB-43A6-B981-B47C1DA1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BE1-FE3B-4EC3-8A4F-8F575B7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BEB-27B9-4F8A-9341-680767AD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D2A-727B-471D-B0CE-3AEEABC1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E88-7C94-4C38-999A-CC5DCA3E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310-63F7-4862-A337-13B9D7E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D9F-86EB-4740-83BA-D5CF9897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C99-7650-48CB-938B-00779FE8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DF6-E8B9-4462-82D5-40C9DC43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AFC-8520-41BA-93B7-E8046ED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698-CE71-4853-9C6A-46C33B5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A20-6DB1-49D3-B39B-919C67F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5095E-8412-41EA-95CF-D409742CAC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